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C635-55EE-489B-A140-E2C93CB878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26B2-5F56-4415-A205-8F6C39AA7E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C511-C184-416A-9A63-091EA8EE06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FD06-CCED-414B-BC46-44D608E209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25C3-E657-4B18-B031-35DCAC863B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9D6A-83D5-489E-A9E8-2E4E3EEDFF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F73A-9BC0-47B7-8964-DF76CA26B3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F724-9424-408E-A3A7-35CF957845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2A92-D6C1-4397-ACD4-EE22B848AD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2A63-E16A-4384-8FE7-70E21AA6CF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6F97-96F7-49CB-A920-C015E6C058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A625-A40B-4BB1-8F79-DBCD2BE6BB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22C0-3FC1-4C73-A5D2-5932D97218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75DC-6BCE-44B9-848A-BD50D3F3E86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6C62-48A8-4BB4-8633-F222652FAE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458D-301F-420D-8446-876F490C19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5664-8ECF-4E81-8E53-393A9D924C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BBCC-0050-4CA5-A1F2-30258F9A73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6780-2E84-4BE8-B78F-88184DD1D6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BC72-31C3-4DA7-8E8C-49AB9B7BC4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4AEE-0BA8-412D-8037-13590AFB7F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EBD9-0D2C-44C2-95DC-0A05E835F1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0B97-1185-41CA-AE3D-974A18CCDB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245D-27D9-4D97-84FF-F754C7AE03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A928-9758-496B-82AA-C026E3EB18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C463-05B2-486C-9A4E-4610527534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622B-0CB8-4F83-B363-382D6D8B97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A5A6-46FB-4C9D-BAC2-5CCF91EDF8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3770-D653-4081-811B-BFB0F31386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AE2A-7344-4BEC-80DC-1A7EDCECF1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F72F-4925-44D1-848C-CD47631DC6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2390-E6E4-43E1-AB7F-C8B1F6FF5E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EEAF-DEE4-4738-AC99-2E0225DDE1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47E2-CE77-41FC-8528-2A530E12E6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A0F8-8208-4B25-8D6F-57F55F6CB0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DD73-111C-4C77-AF63-1FFEBBB0AA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B86F-DF0D-49E5-93F2-74A8BCB3FC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342C-AFF4-4401-9851-39166A5642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0EF0-4667-4772-92CB-DBBB519CCA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7649-6383-494D-BAA5-69C7991DE5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39AB-76E9-41E0-ABF9-E0F265F938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7A81-E665-48DB-8164-C7BB53AF0B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714C-BAC1-4835-95F0-8930D73DFD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4BAE-EFED-4ADF-A0C7-7A84E6DF4E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4994-DA41-48B7-9993-0F111BE3C5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889F-1101-411D-8277-11D787724B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FBCD-88E8-4011-A857-E0DE111B38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62D8-7F2D-4784-9D22-B2232698012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A80-C028-4DAC-8248-3FE2845A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89A-5927-4CB0-99BE-2052F32A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9C0-8AAC-45E4-9A02-9DC99F22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FBC-AA33-4A61-8A9E-1EC2B7A8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DD3-7ED7-4263-92DD-223C16D3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C4A-9303-4FF0-8F63-F28265AE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32D-5768-42FF-9AAF-0481706B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A05-1875-45EC-A365-F1D588C8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CD7-52EB-457C-BB6E-56A96047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AD1-8FB9-4998-94BC-17C31CFE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4AC-AA8F-4D88-9CF0-9631E9A1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133-01DA-41C3-9A72-16A3E183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850A-4938-4576-A6FF-8B7BD250B0EA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f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저녁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pé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모시다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동반하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开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67692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kāi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처방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약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ò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应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ggā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54400"/>
            <a:ext cx="6381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8500" spc="-1" strike="noStrike">
                <a:solidFill>
                  <a:srgbClr val="000000"/>
                </a:solidFill>
                <a:latin typeface="굴림"/>
              </a:rPr>
              <a:t>해야 한다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锻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500" spc="-1" strike="noStrike">
                <a:solidFill>
                  <a:srgbClr val="000000"/>
                </a:solidFill>
                <a:latin typeface="Arial"/>
              </a:rPr>
              <a:t>duànlià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31000"/>
            <a:ext cx="638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800" spc="-1" strike="noStrike">
                <a:solidFill>
                  <a:srgbClr val="000000"/>
                </a:solidFill>
                <a:latin typeface="굴림"/>
              </a:rPr>
              <a:t>단련하다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锻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500" spc="-1" strike="noStrike">
                <a:solidFill>
                  <a:srgbClr val="000000"/>
                </a:solidFill>
                <a:latin typeface="Arial"/>
              </a:rPr>
              <a:t>duànlià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단련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词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ídi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动物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805440"/>
            <a:ext cx="6264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500" spc="-1" strike="noStrike">
                <a:solidFill>
                  <a:srgbClr val="000000"/>
                </a:solidFill>
                <a:latin typeface="Arial"/>
              </a:rPr>
              <a:t>dòngwùyuán</a:t>
            </a:r>
            <a:endParaRPr b="0" lang="en-US" sz="7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동물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老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h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호랑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hǎoxià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마치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인 것 같다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中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ōngwǔ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한낮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保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oh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보호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文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wénhuà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문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遗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ch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유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虐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nüèd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학대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动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òngwù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동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á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이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鼻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bít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콧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体育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tǐyùguǎ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체육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鸡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d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比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s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경기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è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우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生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ēngcí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새단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새롭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낡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오래되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美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ěil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름답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cuò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틀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安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ānjì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용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득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볍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面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miàntiáo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국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ò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무겁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à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뚱뚱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u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어지럽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얼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胳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ēb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è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등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허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爱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àih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취미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意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j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父亲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q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버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咳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késo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침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整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ěngtiā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종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8:56:56Z</dcterms:created>
  <dc:creator>System</dc:creator>
  <dc:description/>
  <dc:language>en-US</dc:language>
  <cp:lastModifiedBy>System</cp:lastModifiedBy>
  <dcterms:modified xsi:type="dcterms:W3CDTF">2014-01-28T00:49:38Z</dcterms:modified>
  <cp:revision>9</cp:revision>
  <dc:subject/>
  <dc:title>슬라이드 1</dc:title>
</cp:coreProperties>
</file>